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E9B-262F-4BE7-B5A4-91208FF0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EEE-9B31-4038-9482-782BD91B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9EA-599C-4F21-989F-FC384355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33E-CE54-4BC0-BEBB-189409B1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BED-F2B7-42C0-8A02-C40574D9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EC8-5C61-4E45-A5BC-4D80B4F9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83F-029C-454A-9ADB-708C9BDC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E64-8D06-4F99-A7BC-4A581004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BA5-CEB2-4CFF-8106-5A799F30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8B9-F45D-49E3-AD42-451CA38C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741-B2F1-4DC1-9732-508782B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94C-EAA8-44CB-8994-33F7E427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5470-53E9-4548-9D2F-25849C2BE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96000" cy="5151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95280" y="260280"/>
            <a:ext cx="83818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лассификация неорганических веществ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Получение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1371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6280" y="1447920"/>
            <a:ext cx="297180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Щело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66688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2Na + 2H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O  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 2NaOH + H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56386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K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O + H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O  </a:t>
            </a:r>
            <a:r>
              <a:rPr b="1" lang="en-US" sz="4000" spc="-1" strike="noStrike">
                <a:solidFill>
                  <a:srgbClr val="66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  2KO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438280"/>
            <a:ext cx="510552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Активный металл +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343400"/>
            <a:ext cx="48765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Основной оксид +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4840" y="304920"/>
            <a:ext cx="693432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Нерастворимые в воде ос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1143000"/>
            <a:ext cx="609840" cy="914400"/>
          </a:xfrm>
          <a:prstGeom prst="upDownArrow">
            <a:avLst>
              <a:gd name="adj1" fmla="val 50000"/>
              <a:gd name="adj2" fmla="val 298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950080"/>
            <a:ext cx="693432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Реакция обмена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=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соль + щел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133720"/>
            <a:ext cx="9448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u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SO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+2Na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OH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Na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SO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u(OH)</a:t>
            </a:r>
            <a:r>
              <a:rPr b="1" lang="en-US" sz="36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997360"/>
            <a:ext cx="9448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Zn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(N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+2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K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OH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2KN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Z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OH)</a:t>
            </a:r>
            <a:r>
              <a:rPr b="1" lang="ru-RU" sz="36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78936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Fe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l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+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Ba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OH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BaCl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Fe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OH)</a:t>
            </a:r>
            <a:r>
              <a:rPr b="1" lang="ru-RU" sz="36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4724280"/>
            <a:ext cx="609480" cy="914400"/>
          </a:xfrm>
          <a:prstGeom prst="upDownArrow">
            <a:avLst>
              <a:gd name="adj1" fmla="val 50000"/>
              <a:gd name="adj2" fmla="val 298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11280" y="907920"/>
            <a:ext cx="78483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ЕАКЦИЯ ОБМЕНА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АКЦИЯ МЕЖДУ ДВУМЯ СЛОЖНЫМИ ВЕЩЕСТВАМИ ПРИ КОТОРОЙ ОНИ ОБМЕНИВАЮТСЯ СВОИМИ СОСТАВНЫМИ ЧАСТЯ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7664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FeCl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+</a:t>
            </a: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Ba(</a:t>
            </a:r>
            <a:r>
              <a:rPr b="1" lang="ru-RU" sz="3600" spc="-1" strike="noStrike">
                <a:solidFill>
                  <a:srgbClr val="ff33cc"/>
                </a:solidFill>
                <a:latin typeface="Tahoma"/>
              </a:rPr>
              <a:t>OH</a:t>
            </a: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)</a:t>
            </a:r>
            <a:r>
              <a:rPr b="1" lang="en-US" sz="3600" spc="-1" strike="noStrike" baseline="-25000">
                <a:solidFill>
                  <a:srgbClr val="ff33cc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Ba</a:t>
            </a: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Cl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Fe</a:t>
            </a:r>
            <a:r>
              <a:rPr b="1" lang="ru-RU" sz="3600" spc="-1" strike="noStrike">
                <a:solidFill>
                  <a:srgbClr val="ff33cc"/>
                </a:solidFill>
                <a:latin typeface="Tahoma"/>
              </a:rPr>
              <a:t>(OH)</a:t>
            </a:r>
            <a:r>
              <a:rPr b="1" lang="ru-RU" sz="3600" spc="-1" strike="noStrike" baseline="-30000">
                <a:solidFill>
                  <a:srgbClr val="ff33cc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367640" y="3897720"/>
            <a:ext cx="576360" cy="2374920"/>
          </a:xfrm>
          <a:custGeom>
            <a:avLst/>
            <a:gdLst>
              <a:gd name="textAreaLeft" fmla="*/ 77040 w 576360"/>
              <a:gd name="textAreaRight" fmla="*/ 499320 w 576360"/>
              <a:gd name="textAreaTop" fmla="*/ 403560 h 2374920"/>
              <a:gd name="textAreaBottom" fmla="*/ 173376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46" stAng="-5400000" swAng="-5400000"/>
                <a:lnTo>
                  <a:pt x="0" y="12095"/>
                </a:lnTo>
                <a:arcTo wR="21600" hR="7346" stAng="10800000" swAng="-2633179"/>
                <a:lnTo>
                  <a:pt x="14400" y="21180"/>
                </a:lnTo>
                <a:lnTo>
                  <a:pt x="21600" y="17066"/>
                </a:lnTo>
                <a:lnTo>
                  <a:pt x="14400" y="12111"/>
                </a:lnTo>
                <a:lnTo>
                  <a:pt x="14400" y="14271"/>
                </a:lnTo>
                <a:arcTo wR="21600" hR="7346" stAng="8166821" swAng="2235606"/>
                <a:lnTo>
                  <a:pt x="1160" y="9720"/>
                </a:lnTo>
                <a:arcTo wR="21600" hR="7346" stAng="-10402427" swAng="5002427"/>
                <a:close/>
              </a:path>
              <a:path fill="darkenLess" w="21600" h="21600">
                <a:moveTo>
                  <a:pt x="21600" y="0"/>
                </a:moveTo>
                <a:arcTo wR="21600" hR="7346" stAng="-5400000" swAng="-5400000"/>
                <a:lnTo>
                  <a:pt x="0" y="7346"/>
                </a:lnTo>
                <a:arcTo wR="21600" hR="7346" stAng="10800000" swAng="-397573"/>
                <a:lnTo>
                  <a:pt x="1160" y="9720"/>
                </a:lnTo>
                <a:arcTo wR="21600" hR="7346" stAng="-10402427" swAng="5002427"/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rot="16200000">
            <a:off x="2122200" y="2348640"/>
            <a:ext cx="647640" cy="2808360"/>
          </a:xfrm>
          <a:custGeom>
            <a:avLst/>
            <a:gdLst>
              <a:gd name="textAreaLeft" fmla="*/ 86760 w 647640"/>
              <a:gd name="textAreaRight" fmla="*/ 560880 w 647640"/>
              <a:gd name="textAreaTop" fmla="*/ 512280 h 2808360"/>
              <a:gd name="textAreaBottom" fmla="*/ 201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81" stAng="-5400000" swAng="-5400000"/>
                <a:lnTo>
                  <a:pt x="0" y="11559"/>
                </a:lnTo>
                <a:arcTo wR="21600" hR="7881" stAng="10800000" swAng="-2754105"/>
                <a:lnTo>
                  <a:pt x="14400" y="21149"/>
                </a:lnTo>
                <a:lnTo>
                  <a:pt x="21600" y="17601"/>
                </a:lnTo>
                <a:lnTo>
                  <a:pt x="14400" y="13151"/>
                </a:lnTo>
                <a:lnTo>
                  <a:pt x="14400" y="15311"/>
                </a:lnTo>
                <a:arcTo wR="21600" hR="7881" stAng="8045895" swAng="2453875"/>
                <a:lnTo>
                  <a:pt x="596" y="9720"/>
                </a:lnTo>
                <a:arcTo wR="21600" hR="7881" stAng="-10499770" swAng="5099770"/>
                <a:close/>
              </a:path>
              <a:path fill="darkenLess" w="21600" h="21600">
                <a:moveTo>
                  <a:pt x="21600" y="0"/>
                </a:moveTo>
                <a:arcTo wR="21600" hR="7881" stAng="-5400000" swAng="-5400000"/>
                <a:lnTo>
                  <a:pt x="0" y="7881"/>
                </a:lnTo>
                <a:arcTo wR="21600" hR="7881" stAng="10800000" swAng="-300230"/>
                <a:lnTo>
                  <a:pt x="596" y="9720"/>
                </a:lnTo>
                <a:arcTo wR="21600" hR="7881" stAng="-10499770" swAng="5099770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403848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26920" y="6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2160" y="1772640"/>
            <a:ext cx="458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§ 31 (с. 93—95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упр. 2, 3 (с. 99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адачи 3, 4 (с. 99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92960" y="4159080"/>
            <a:ext cx="1914480" cy="2097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562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Основани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5976720" cy="6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химия – 8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2546640" cy="268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71640" y="1773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УРОК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Определение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4941720"/>
            <a:ext cx="21765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Ме(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ОН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57720"/>
            <a:ext cx="9043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ОН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a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ОН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ahoma"/>
              </a:rPr>
              <a:t>2 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l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ОН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  Ba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ОН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5157720"/>
            <a:ext cx="1295280" cy="304920"/>
          </a:xfrm>
          <a:prstGeom prst="leftRightArrow">
            <a:avLst>
              <a:gd name="adj1" fmla="val 50000"/>
              <a:gd name="adj2" fmla="val 8456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941720"/>
            <a:ext cx="304812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идрокс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413000"/>
            <a:ext cx="8610480" cy="1373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Основания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– вещества, которые состоят из атомов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металлов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, соединенных с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идроксильными групп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Название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Гидрокси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03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8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Название металла в родительном паде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7920" y="350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14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Валентность металла римскими циф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734080"/>
            <a:ext cx="777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Zn(OH)</a:t>
            </a:r>
            <a:r>
              <a:rPr b="1" lang="ru-RU" sz="4000" spc="-1" strike="noStrike" baseline="-25000">
                <a:solidFill>
                  <a:srgbClr val="ff0066"/>
                </a:solidFill>
                <a:latin typeface="Tahoma"/>
              </a:rPr>
              <a:t>2</a:t>
            </a:r>
            <a:r>
              <a:rPr b="1" lang="ru-RU" sz="4000" spc="-1" strike="noStrike" baseline="-25000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4000" spc="-1" strike="noStrike" baseline="-25000">
                <a:solidFill>
                  <a:srgbClr val="008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ГИДРОКСИД ЦИНКА (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2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Дайте названия гидрокси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21463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01e"/>
                </a:solidFill>
                <a:latin typeface="Comic Sans MS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3441600"/>
            <a:ext cx="194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01e"/>
                </a:solidFill>
                <a:latin typeface="Comic Sans MS"/>
              </a:rPr>
              <a:t>Ca(OH)</a:t>
            </a:r>
            <a:r>
              <a:rPr b="1" lang="en-US" sz="3200" spc="-1" strike="noStrike" baseline="-25000">
                <a:solidFill>
                  <a:srgbClr val="9e001e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03200" y="276552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01e"/>
                </a:solidFill>
                <a:latin typeface="Comic Sans MS"/>
              </a:rPr>
              <a:t>Fe(OH)</a:t>
            </a:r>
            <a:r>
              <a:rPr b="1" lang="en-US" sz="3200" spc="-1" strike="noStrike" baseline="-25000">
                <a:solidFill>
                  <a:srgbClr val="9e001e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46040" y="4694400"/>
            <a:ext cx="2087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01e"/>
                </a:solidFill>
                <a:latin typeface="Comic Sans MS"/>
              </a:rPr>
              <a:t>Fe(OH)</a:t>
            </a:r>
            <a:r>
              <a:rPr b="1" lang="en-US" sz="3200" spc="-1" strike="noStrike" baseline="-25000">
                <a:solidFill>
                  <a:srgbClr val="9e001e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4092480"/>
            <a:ext cx="201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01e"/>
                </a:solidFill>
                <a:latin typeface="Comic Sans MS"/>
              </a:rPr>
              <a:t>Al(OH)</a:t>
            </a:r>
            <a:r>
              <a:rPr b="1" lang="en-US" sz="3200" spc="-1" strike="noStrike" baseline="-25000">
                <a:solidFill>
                  <a:srgbClr val="9e001e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21337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Гидроксид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95560" y="2781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Гидроксид железа (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38560" y="34545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Гидроксид кальция</a:t>
            </a:r>
            <a:r>
              <a:rPr b="0" lang="en-US" sz="3200" spc="-1" strike="noStrike">
                <a:solidFill>
                  <a:srgbClr val="9e001e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407664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Гидроксид алюминия</a:t>
            </a:r>
            <a:r>
              <a:rPr b="0" lang="en-US" sz="3200" spc="-1" strike="noStrike">
                <a:solidFill>
                  <a:srgbClr val="9e001e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5360" y="4724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Гидроксид железа (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6920" y="54936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Валентность гидроксогруппы</a:t>
            </a: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–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844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Количество гидроксогрупп определяется валентностью металла, образующего осн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64500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Например: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27120" y="4581360"/>
                <a:ext cx="19350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984400" y="4573440"/>
                <a:ext cx="26942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86440" y="4575240"/>
                <a:ext cx="25606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Классификация осн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8360" y="1143000"/>
            <a:ext cx="586728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о числу гидрокси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186920" y="2133720"/>
            <a:ext cx="1143000" cy="7617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2133720"/>
            <a:ext cx="1363680" cy="765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871720"/>
            <a:ext cx="327636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днокисло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871720"/>
            <a:ext cx="358128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Многокисло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040" y="3886200"/>
            <a:ext cx="1692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К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Na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Li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9920" y="3886200"/>
            <a:ext cx="214236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a(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Н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Fe(OH)</a:t>
            </a:r>
            <a:r>
              <a:rPr b="1" lang="en-US" sz="4000" spc="-1" strike="noStrike" baseline="-25000">
                <a:solidFill>
                  <a:srgbClr val="6600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Cu(OH)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68360" y="981000"/>
            <a:ext cx="426744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о раствор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84360" y="1341360"/>
            <a:ext cx="1511280" cy="5367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341360"/>
            <a:ext cx="1274760" cy="5414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05120"/>
            <a:ext cx="3581280" cy="17816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Растворимые       в в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щел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1905120"/>
            <a:ext cx="3276360" cy="9471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Нерастворимые в в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5440" y="530064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К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43080" y="450864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Na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5950080"/>
            <a:ext cx="2287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ahoma"/>
              </a:rPr>
              <a:t>Ca</a:t>
            </a:r>
            <a:r>
              <a:rPr b="1" lang="ru-RU" sz="4000" spc="-1" strike="noStrike">
                <a:solidFill>
                  <a:srgbClr val="0066ff"/>
                </a:solidFill>
                <a:latin typeface="Tahoma"/>
              </a:rPr>
              <a:t>(ОН)</a:t>
            </a:r>
            <a:r>
              <a:rPr b="1" lang="ru-RU" sz="4000" spc="-1" strike="noStrike" baseline="-30000">
                <a:solidFill>
                  <a:srgbClr val="0066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28400" y="3860640"/>
            <a:ext cx="14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Li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3048120"/>
            <a:ext cx="266688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Fe(OH)</a:t>
            </a:r>
            <a:r>
              <a:rPr b="1" lang="en-US" sz="4000" spc="-1" strike="noStrike" baseline="-25000">
                <a:solidFill>
                  <a:srgbClr val="6600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Cu(OH)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Al</a:t>
            </a:r>
            <a:r>
              <a:rPr b="1" lang="ru-RU" sz="4000" spc="-1" strike="noStrike">
                <a:solidFill>
                  <a:srgbClr val="cc3300"/>
                </a:solidFill>
                <a:latin typeface="Tahoma"/>
              </a:rPr>
              <a:t>(ОН)</a:t>
            </a:r>
            <a:r>
              <a:rPr b="1" lang="en-US" sz="4000" spc="-1" strike="noStrike" baseline="-30000">
                <a:solidFill>
                  <a:srgbClr val="cc3300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26040" y="5805360"/>
            <a:ext cx="2113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Zn(OH)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360" y="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Классификация осн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Сильные и слабые осн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1360" y="1371600"/>
            <a:ext cx="8800560" cy="5105520"/>
            <a:chOff x="171360" y="1371600"/>
            <a:chExt cx="8800560" cy="5105520"/>
          </a:xfrm>
        </p:grpSpPr>
        <p:grpSp>
          <p:nvGrpSpPr>
            <p:cNvPr id="99" name=""/>
            <p:cNvGrpSpPr/>
            <p:nvPr/>
          </p:nvGrpSpPr>
          <p:grpSpPr>
            <a:xfrm>
              <a:off x="180720" y="1374120"/>
              <a:ext cx="8780400" cy="5100120"/>
              <a:chOff x="180720" y="1374120"/>
              <a:chExt cx="8780400" cy="51001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80720" y="1374120"/>
                <a:ext cx="4238640" cy="676800"/>
                <a:chOff x="180720" y="1374120"/>
                <a:chExt cx="4238640" cy="6768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80720" y="1374120"/>
                  <a:ext cx="4238640" cy="6768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Сильные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 основани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80720" y="1374120"/>
                  <a:ext cx="4238640" cy="6768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20080" y="1374120"/>
                <a:ext cx="4541040" cy="676800"/>
                <a:chOff x="4420080" y="1374120"/>
                <a:chExt cx="4541040" cy="6768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420080" y="1374120"/>
                  <a:ext cx="4541040" cy="6768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  <a:ea typeface="Times New Roman"/>
                    </a:rPr>
                    <a:t>Слабые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основани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20080" y="1374120"/>
                  <a:ext cx="4541040" cy="6768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80720" y="2050920"/>
                <a:ext cx="4238640" cy="4423320"/>
                <a:chOff x="180720" y="2050920"/>
                <a:chExt cx="4238640" cy="44233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80720" y="2050920"/>
                  <a:ext cx="4238640" cy="442332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NaOH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натрия (едкий натр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KOH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</a:rPr>
                    <a:t>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калия (едкое кали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LiOH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</a:rPr>
                    <a:t>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лити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Ba(OH)</a:t>
                  </a:r>
                  <a:r>
                    <a:rPr b="1" lang="en-US" sz="2800" spc="-1" strike="noStrike" baseline="-30000">
                      <a:solidFill>
                        <a:srgbClr val="ff0000"/>
                      </a:solidFill>
                      <a:latin typeface="Tahoma"/>
                    </a:rPr>
                    <a:t>2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</a:rPr>
                    <a:t>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бари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Ca(OH)</a:t>
                  </a:r>
                  <a:r>
                    <a:rPr b="1" lang="en-US" sz="2800" spc="-1" strike="noStrike" baseline="-30000">
                      <a:solidFill>
                        <a:srgbClr val="ff0000"/>
                      </a:solidFill>
                      <a:latin typeface="Tahoma"/>
                    </a:rPr>
                    <a:t>2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</a:rPr>
                    <a:t>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кальция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80720" y="2050920"/>
                  <a:ext cx="4238640" cy="442332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420080" y="2050920"/>
                <a:ext cx="4541040" cy="4423320"/>
                <a:chOff x="4420080" y="2050920"/>
                <a:chExt cx="4541040" cy="4423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420080" y="2050920"/>
                  <a:ext cx="4541040" cy="442332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Mg(OH)</a:t>
                  </a:r>
                  <a:r>
                    <a:rPr b="1" lang="en-US" sz="2800" spc="-1" strike="noStrike" baseline="-30000">
                      <a:solidFill>
                        <a:srgbClr val="ff0000"/>
                      </a:solidFill>
                      <a:latin typeface="Tahoma"/>
                    </a:rPr>
                    <a:t>2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</a:rPr>
                    <a:t>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магни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Fe(OH)</a:t>
                  </a:r>
                  <a:r>
                    <a:rPr b="1" lang="en-US" sz="2800" spc="-1" strike="noStrike" baseline="-30000">
                      <a:solidFill>
                        <a:srgbClr val="ff0000"/>
                      </a:solidFill>
                      <a:latin typeface="Tahoma"/>
                    </a:rPr>
                    <a:t>2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</a:rPr>
                    <a:t>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железа (II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Zn(OH)</a:t>
                  </a:r>
                  <a:r>
                    <a:rPr b="1" lang="en-US" sz="2800" spc="-1" strike="noStrike" baseline="-30000">
                      <a:solidFill>
                        <a:srgbClr val="ff0000"/>
                      </a:solidFill>
                      <a:latin typeface="Tahoma"/>
                    </a:rPr>
                    <a:t>2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</a:rPr>
                    <a:t>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цинк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NH</a:t>
                  </a:r>
                  <a:r>
                    <a:rPr b="1" lang="en-US" sz="2800" spc="-1" strike="noStrike" baseline="-30000">
                      <a:solidFill>
                        <a:srgbClr val="ff0000"/>
                      </a:solidFill>
                      <a:latin typeface="Tahoma"/>
                    </a:rPr>
                    <a:t>4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OH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аммони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ahoma"/>
                    </a:rPr>
                    <a:t>Fe(OH)</a:t>
                  </a:r>
                  <a:r>
                    <a:rPr b="1" lang="en-US" sz="2800" spc="-1" strike="noStrike" baseline="-30000">
                      <a:solidFill>
                        <a:srgbClr val="ff0000"/>
                      </a:solidFill>
                      <a:latin typeface="Tahoma"/>
                    </a:rPr>
                    <a:t>3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</a:rPr>
                    <a:t>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гидроксид железа (III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420080" y="2050920"/>
                  <a:ext cx="4541040" cy="442332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171360" y="1371600"/>
              <a:ext cx="8800560" cy="51055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5:54:41Z</dcterms:created>
  <dc:creator>User</dc:creator>
  <dc:description/>
  <dc:language>en-US</dc:language>
  <cp:lastModifiedBy>User</cp:lastModifiedBy>
  <dcterms:modified xsi:type="dcterms:W3CDTF">2009-08-28T17:36:52Z</dcterms:modified>
  <cp:revision>14</cp:revision>
  <dc:subject/>
  <dc:title>Слайд 1</dc:title>
</cp:coreProperties>
</file>